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8E93-716C-4772-B944-F8D0C43CA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8750-436A-43AF-8406-24FA8A3FD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8F32-92A6-498A-8890-832D221B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third bullet (interrelate…) is the rationale for the activity in Action 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D477-1CD7-4DB7-A8CB-5FDBBE6F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4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0167-6A47-4119-A36F-43AB4807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D959-C04B-4DFF-BE16-B87ECB4D1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int out the assessment opportunities available during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ox 1 min of compa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fter step 3 – ask if they notice anything (should notice that sets of 3 were always toge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B805-F352-440D-BA73-372887AE2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51CB-A69D-4000-B46B-F7F0A2CFB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210D-F394-43D0-8DD4-9717DEC4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586E-6FB0-4EFC-811C-C1EA5D96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 think this would be about 30 minutes, with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A24B-0B7B-4DCA-AAF9-EFA436A21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34D8-E730-4C42-81B0-EB9AEBFF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76FB-1176-40C5-BA0D-CB4E5982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5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uld discuss strategies they used – sequential selection of x val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research on above struggles and how introduction to quads through geometric models links quads to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14EA-63C9-4A63-AAA8-731314672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739D-240E-4816-9642-F8FE4CBAD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/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part – 2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40C4-7721-4D3D-AF6D-22341B863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C35C-EBCF-4E92-9F5E-EDA32F69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08F9-1896-4614-9137-1EB757DB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E79B-8825-45D0-A141-2FC63D49E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418B-637E-409F-B579-8BAB09077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98A6-FF79-4E37-85BF-DF231BE14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15AD-D46D-4886-BBBB-69AA2DDB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3BC3-6835-4880-88B3-71B9AAAF9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DB44-6FC2-4C8D-AD24-CCB4FD95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A80-06E0-4851-BA1A-9F266CED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474-0602-48FE-8771-30F572ED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BD7-FB22-44A1-9756-BFF88DA4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3D4-0666-4E18-BF89-60FC6D80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E28C-0428-48DC-A40C-0170E120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2E66-21CC-4788-A328-E114EA42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7A05-B32E-49BA-8551-97C661DC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827B-F12E-4DF4-BCBC-F0071F05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588C-8F8A-487C-B16D-4B07E717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766F-8F61-4A98-9F99-1071245E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6436-42F3-4195-B5AF-00A417E9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9E9-296F-46EA-968B-9C45BDE3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A0A8-D011-42D2-A614-FD30527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3AFE-A4EA-45D4-A89B-79961DFF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033C-FD1C-4E9C-B7F6-8588E8D2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12A8-DBD7-4A80-BF26-203BA6A3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C7A8-F1C7-4AF9-B589-5B612031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7C1-7DDB-4F1D-9931-E71CAD35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8BE-206F-4BEC-8DF8-1A657D98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D81-B386-4287-AB76-8DA05B72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313-2087-4801-B43E-D35F0DDF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2A9-0942-4EA1-A99E-088D270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3C7-5E9A-4A7E-A7AB-94520259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5F1-3203-48DB-A90A-01CF2DC0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37AA-A731-4461-948C-B883C272164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6189-CEB6-4653-9BFF-0AE161559BC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Tripping Over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Stumbling Bl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ing the problem to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errelate graphical and algebraic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Recognize that different representations of relationships highlight different characteristics or behaviours and can serve different purpo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one is going to receive a graph of a quadratic relation with its equation.  The equations are given in 3 different forms (examples shown below) and we will be looking to see what information each form gives, if any, about a parabola.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3(x + 2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– 7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(x + 4)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– 2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+ 4x +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x 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believe that all of the above relations would give parabolic graphs?  Why or why no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7176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ete the information requested below the graph given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zero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new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only the people who have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a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 record the important info about your 3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g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27436" t="40117" r="26003" b="19771"/>
          <a:stretch/>
        </p:blipFill>
        <p:spPr>
          <a:xfrm>
            <a:off x="1857240" y="3286080"/>
            <a:ext cx="5970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64268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Consolid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class decide how the chart papers should be arranged to help make patter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nformation about the graph of a parabola does each form of the equation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-up exit card: which form do you think is most useful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125"/>
                            </p:stCondLst>
                            <p:childTnLst>
                              <p:par>
                                <p:cTn id="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75"/>
                            </p:stCondLst>
                            <p:childTnLst>
                              <p:par>
                                <p:cTn id="1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90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50"/>
                            </p:stCondLst>
                            <p:childTnLst>
                              <p:par>
                                <p:cTn id="2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50"/>
                            </p:stCondLst>
                            <p:childTnLst>
                              <p:par>
                                <p:cTn id="2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2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7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2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700"/>
                            </p:stCondLst>
                            <p:childTnLst>
                              <p:par>
                                <p:cTn id="47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4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325"/>
                            </p:stCondLst>
                            <p:childTnLst>
                              <p:par>
                                <p:cTn id="5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775"/>
                            </p:stCondLst>
                            <p:childTnLst>
                              <p:par>
                                <p:cTn id="5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50"/>
                            </p:stCondLst>
                            <p:childTnLst>
                              <p:par>
                                <p:cTn id="56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30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700"/>
                            </p:stCondLst>
                            <p:childTnLst>
                              <p:par>
                                <p:cTn id="6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750"/>
                            </p:stCondLst>
                            <p:childTnLst>
                              <p:par>
                                <p:cTn id="74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75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50"/>
                            </p:stCondLst>
                            <p:childTnLst>
                              <p:par>
                                <p:cTn id="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Student Strugg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struggles that you experienced while engaged in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, record struggles you think students might have when completing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at least one question for each struggle which c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Reveal the struggl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caffold for some struggling studen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connections you see between the identified struggle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understandings,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insert revised (when it is) BLM QR.2.2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o we want to show the link to clips here too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3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25"/>
                            </p:stCondLst>
                            <p:childTnLst>
                              <p:par>
                                <p:cTn id="9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75"/>
                            </p:stCondLst>
                            <p:childTnLst>
                              <p:par>
                                <p:cTn id="9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9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650"/>
                            </p:stCondLst>
                            <p:childTnLst>
                              <p:par>
                                <p:cTn id="1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50"/>
                            </p:stCondLst>
                            <p:childTnLst>
                              <p:par>
                                <p:cTn id="11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200"/>
                            </p:stCondLst>
                            <p:childTnLst>
                              <p:par>
                                <p:cTn id="11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700"/>
                            </p:stCondLst>
                            <p:childTnLst>
                              <p:par>
                                <p:cTn id="12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200"/>
                            </p:stCondLst>
                            <p:childTnLst>
                              <p:par>
                                <p:cTn id="12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700"/>
                            </p:stCondLst>
                            <p:childTnLst>
                              <p:par>
                                <p:cTn id="134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325"/>
                            </p:stCondLst>
                            <p:childTnLst>
                              <p:par>
                                <p:cTn id="13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775"/>
                            </p:stCondLst>
                            <p:childTnLst>
                              <p:par>
                                <p:cTn id="14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4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50"/>
                            </p:stCondLst>
                            <p:childTnLst>
                              <p:par>
                                <p:cTn id="143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300"/>
                            </p:stCondLst>
                            <p:childTnLst>
                              <p:par>
                                <p:cTn id="14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750"/>
                            </p:stCondLst>
                            <p:childTnLst>
                              <p:par>
                                <p:cTn id="161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250"/>
                            </p:stCondLst>
                            <p:childTnLst>
                              <p:par>
                                <p:cTn id="1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Think Bac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specific struggles would this activity potentially address for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uld be done to address the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the use of manipulatives add to your problem solving strategy? understanding? ability to connect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out algebra tiles from BLM QR.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common stu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artial understanding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one per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sticky note beside the appropriate curriculum cluster or big idea o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Revisit Lesson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nvene with your groups for lesson goals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sticky notes to supplement your own consideration of the struggles students normally encounter, revise and/or add to your lesson goal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st you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00" y="185688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never consider trends in famili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rely consider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understand the power of th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ing the point (b,c) as the vertex of the standard form y=ax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when and how to use the vertex (h,k) with the vertex form, y=x(a-h)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k, which is demonstrated through students using the same process (algebraic to graphical) regardless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5840" y="190476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horizontally or vertically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different, potentially conflicting algebraic and graphical schemes in the cognitive structure (the phenomenon of compartment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simultaneous evoked images for one concept, which results in cognitive conflict (e.g., quadratic function evokes quadratic formula and parabo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not true for algebraic to gra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esent the vertex form by connecting it to the standard form and emphasize the connections to the graph as well as information about how and when to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these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s.yearley</cp:lastModifiedBy>
  <dcterms:modified xsi:type="dcterms:W3CDTF">2009-08-13T18:51:52Z</dcterms:modified>
  <cp:revision>137</cp:revision>
  <dc:subject/>
  <dc:title>Slide 1</dc:title>
</cp:coreProperties>
</file>